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49C6-9254-4DFE-8542-E42D13E36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pero que todo el mundo se disfruto el café y merienda.  Jessica ha presentado un buen repaso de terminos claves asociados con monitoreo y evaluacion.  En este presentacion queremos entender mejor como funcionan los componentes de monitoreo y evaluacion.  Una herramienta importante para enlacer estos componentes es un marco de monitoreo y evaluacion.  Vamos a discutir: Que son los marcos de monitoreo y evaluacion?  Porque los usamos?  Que son los tipos de marcos?  Como se pueden crear un marco de M&amp;E para el PNT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roduc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ezar con un marco conceptual o marco de investigacion.  Es mas amplia de un marco de M&amp;E y consiste 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erramienta de organiz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arco Lógic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cc00"/>
                </a:solidFill>
                <a:latin typeface="Arial"/>
              </a:rPr>
              <a:t>Marcos lógicos son diagramas que identifican e ilustran las relaciones lineales que fluyen de  los insumos, procesos, productos y resultados del program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 Los insumos o recursos afectan procesos o actividades los cuales producen resultados o productos que finalmente conducirán a resultados y resultados mas amplios o a largo plaz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veen una interpretación lineal del uso planeado de los recursos y de los fines desead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lara los postulados del proyecto o programa acerca de relaciones lineales entre los factores relevantes a los fines desead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6C0A-5AF6-4514-B61B-2AF4B7789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403280" y="863640"/>
            <a:ext cx="4054680" cy="3041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2960" y="4203720"/>
            <a:ext cx="50320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et of resources (personnel, facilities, space, equipment, suppli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t of activities in which program inputs are utilized in pursuit of results expected from the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sults obtained a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gram lev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rough the execution of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: #of persons tran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: access, qualit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utilization: CYP, #new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set of results to occur at the population level due to program activities and the generation of program outpu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AC01-4606-429F-9F7F-8D7BC24DE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625760" y="304920"/>
            <a:ext cx="3456000" cy="2592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38080" y="3125520"/>
            <a:ext cx="51069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C8E-956B-49C3-AB87-43B5EB79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51F-7E81-459E-AB65-9EE25904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0AE-F402-4B7C-91FD-2C97F431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8F4-9D2A-4D5C-9285-2E471C43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48D1-A027-4EA3-928E-51FD9EC7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1DA9-44B3-4473-A405-5C85F950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8924-6C50-4762-9005-B86DA800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58AB-9510-43C6-B8DD-E4AFCF2C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9CD9-BE17-4F3B-A13D-24661E98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0297-A7DD-4C55-A496-CFD65D29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E69F-33E0-48E2-8BFF-B19F7823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F98-561C-4CD5-B5F4-21C120AB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8506-7B57-4E64-B985-D6A050A8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86B8-1A88-473B-BC97-8DC236CA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1694-BFD2-4C01-9154-F8B5FC39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930D-E459-47AE-9464-86448C4C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69D2-ABDB-4202-BC33-B4C29E2C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918-E1A4-4466-A834-D1A1A90A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FD2-A330-4E94-89DF-29CAD03A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E84-76E0-431E-BFBF-9AE270C2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7E4-A7F4-4E5B-9504-E272C0A8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EBB-B4B8-4FFB-9A78-4C532755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0AB-1903-483E-8A1E-83C7A6D8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3F4-8268-4BD4-B88F-A3055D66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FC0A-CCA9-4ECC-BC06-A68BCEF43D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04A2-6203-4B70-ABC4-BE574F35DA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Marcos de Monitoreo y Evaluació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1447920" y="2286000"/>
            <a:ext cx="609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Que s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que los usam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ipos de marc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crear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Conclusiones a la Introduc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propósito de entender el Monitoreo y la Evaluación incluyen la habilidad para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bicar adecuadamente los recursos de acuerdo a los objetivos del progr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justar los programas y su impacto de acuerdo a evidencia re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496440"/>
            <a:ext cx="85406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ffffcc"/>
                </a:solidFill>
                <a:latin typeface="Tahoma"/>
              </a:rPr>
              <a:t>Pasos claves de operalizacion de M&amp;E 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861840" indent="-464040">
              <a:spcBef>
                <a:spcPts val="7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rrollar un marco de M&amp;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1840" indent="-464040">
              <a:spcBef>
                <a:spcPts val="7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leccionar los mejores indicadores que ajusten los objetivos del programa y los que usted pueda medir con los datos que usted tenga disponi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1840" indent="-464040">
              <a:spcBef>
                <a:spcPts val="7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rrollar un plan de Monitoreo y Evalu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1840" indent="-464040">
              <a:spcBef>
                <a:spcPts val="7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coja y analice los datos adecuada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1840" indent="-464040">
              <a:spcBef>
                <a:spcPts val="700"/>
              </a:spcBef>
              <a:buClr>
                <a:srgbClr val="6fa9b7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tilice los resultados como retroalimentación para mejorar el progr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Marco Conceptu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son? Dibujos, modelos o map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dibujos ideales de los factores que llevan a una intervención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n mapas de sus pensamientos sobre como un programa puede funcionar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n las relaciones (dirección del efecto) entre factores importantes que pueden influir en la operación de un programa y el éxito de su objetivo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Que </a:t>
            </a: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s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un Marco conceptual?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 una serie de ideas o conceptos coherentes, organizados de tal manera que sean fáciles de comunicar a los demá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 una manera organizada de pensar en el cómo y el porque de la realización de un proyecto, y en cómo entendemos sus activ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 una forma de identificar las  relaciones (dirección del efecto) entre los factores importantes que pueden influir en la operación de un programa y el éxito de su obje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209680" y="914400"/>
            <a:ext cx="1600200" cy="15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actores demo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E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Géne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Pobre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57400" y="2590920"/>
            <a:ext cx="1828800" cy="2000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actores socio-económ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Educ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Condiciones de vivie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Ocup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Conductas de salu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4800600"/>
            <a:ext cx="1828800" cy="2000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rvicios de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Servicios diagnó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Servicios de tratamien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Acceso y util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Estigm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1981080"/>
            <a:ext cx="1523880" cy="31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oluntad Polí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poyo de donan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porte del P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3276720"/>
            <a:ext cx="12193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fección por 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2209680"/>
            <a:ext cx="1447920" cy="2000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orbilidad de la 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Incidenc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Prevalenc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Co-infección con V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MDR-T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620120" y="3048120"/>
            <a:ext cx="152388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ortalidad de la 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4648320"/>
            <a:ext cx="1752840" cy="1524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-mor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V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Malnutri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Alcoholis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iabe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4" name=""/>
          <p:cNvCxnSpPr>
            <a:stCxn id="396" idx="3"/>
            <a:endCxn id="400" idx="0"/>
          </p:cNvCxnSpPr>
          <p:nvPr/>
        </p:nvCxnSpPr>
        <p:spPr>
          <a:xfrm>
            <a:off x="3809520" y="1684080"/>
            <a:ext cx="1296360" cy="15930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5" name=""/>
          <p:cNvCxnSpPr/>
          <p:nvPr/>
        </p:nvCxnSpPr>
        <p:spPr>
          <a:xfrm>
            <a:off x="3885840" y="3581280"/>
            <a:ext cx="61020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8" idx="3"/>
            <a:endCxn id="403" idx="1"/>
          </p:cNvCxnSpPr>
          <p:nvPr/>
        </p:nvCxnSpPr>
        <p:spPr>
          <a:xfrm flipV="1">
            <a:off x="3885840" y="5403600"/>
            <a:ext cx="1981800" cy="3909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3962520" y="51055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876920" y="441936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4419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2485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" name=""/>
          <p:cNvCxnSpPr/>
          <p:nvPr/>
        </p:nvCxnSpPr>
        <p:spPr>
          <a:xfrm flipV="1">
            <a:off x="6705360" y="41904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03" idx="3"/>
            <a:endCxn id="402" idx="2"/>
          </p:cNvCxnSpPr>
          <p:nvPr/>
        </p:nvCxnSpPr>
        <p:spPr>
          <a:xfrm flipV="1">
            <a:off x="7620120" y="3758400"/>
            <a:ext cx="762480" cy="16455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00" idx="3"/>
            <a:endCxn id="401" idx="1"/>
          </p:cNvCxnSpPr>
          <p:nvPr/>
        </p:nvCxnSpPr>
        <p:spPr>
          <a:xfrm flipV="1">
            <a:off x="5714640" y="3203280"/>
            <a:ext cx="229320" cy="429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401" idx="3"/>
            <a:endCxn id="402" idx="1"/>
          </p:cNvCxnSpPr>
          <p:nvPr/>
        </p:nvCxnSpPr>
        <p:spPr>
          <a:xfrm>
            <a:off x="7391160" y="3203280"/>
            <a:ext cx="229320" cy="20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228600" y="228600"/>
            <a:ext cx="5943600" cy="609480"/>
          </a:xfrm>
          <a:prstGeom prst="rect">
            <a:avLst/>
          </a:prstGeom>
          <a:solidFill>
            <a:srgbClr val="a81e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jempl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1: Mortalidad de TB  – Un Marco Concep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38098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Porque los usamos?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27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n una herramienta de comun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 una manera útil en explicar/mostrar lo que estamos pensando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s dan una perspectiva sobre un programa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s guían en la selección de activ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s ayudan a aclarar la dirección del efecto de unos factores sobre otro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s ayuda no omitir factores important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arcos lógic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Marcos lógicos son diagramas que identifican e ilustran las relaciones lineales que fluyen de  los insumos, procesos, productos y resultados del progr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562360" cy="1104840"/>
          </a:xfrm>
          <a:prstGeom prst="rect">
            <a:avLst/>
          </a:prstGeom>
          <a:solidFill>
            <a:srgbClr val="a81e3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Marco Lógico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sumos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Procesos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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ductos 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sultados/impact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ivel de Program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ivel de Pobl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38680" y="42670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4495680"/>
            <a:ext cx="541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42670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305920" y="42670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72200" y="449568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52280" y="1219320"/>
            <a:ext cx="1676520" cy="223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su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ersonal medico y administra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edica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Laboratori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05120" y="1219320"/>
            <a:ext cx="1752480" cy="304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NT – manejo /comun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mun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poy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apacitación de pers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Sistema de vigilanc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09880" y="1219320"/>
            <a:ext cx="1447920" cy="242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du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Servicios diagnóst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Servicios de trata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noci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ig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1219320"/>
            <a:ext cx="1828800" cy="144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Detección de cas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tamiento de cas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91520" y="1219320"/>
            <a:ext cx="1600200" cy="253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nfección por 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orbilidad de la 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ortalidad de la 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4876920"/>
            <a:ext cx="8610480" cy="148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tex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Voluntad Política     Sistema de Salud         Condiciones socio-económicas                     Contexto - Epidemiológic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Acceso                                                                                    Prevalencia de V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Uso                                                                                          Malnutri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Accesibilidad                                                                           Alcoholis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457200"/>
            <a:ext cx="6934320" cy="459720"/>
          </a:xfrm>
          <a:prstGeom prst="rect">
            <a:avLst/>
          </a:prstGeom>
          <a:solidFill>
            <a:srgbClr val="a81e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arco lógico para programas de TB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52480" y="2362320"/>
            <a:ext cx="152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57600" y="2362320"/>
            <a:ext cx="152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57800" y="2362320"/>
            <a:ext cx="152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238880" y="2133720"/>
            <a:ext cx="152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590920" y="4419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62120" y="396252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781680" y="42670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724280" y="42670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El diseño de un Marco de Evaluación y Monitoreo ayuda a determinar:</a:t>
            </a:r>
            <a:br>
              <a:rPr sz="4000"/>
            </a:br>
            <a:br>
              <a:rPr sz="3000"/>
            </a:br>
            <a:br>
              <a:rPr sz="3000"/>
            </a:br>
            <a:r>
              <a:rPr b="0" lang="es-ES" sz="2800" spc="-1" strike="noStrike">
                <a:solidFill>
                  <a:srgbClr val="ffffcc"/>
                </a:solidFill>
                <a:latin typeface="Tahoma"/>
              </a:rPr>
              <a:t>Los elementos apropiados del programa a ser medidos.</a:t>
            </a:r>
            <a:br>
              <a:rPr sz="2800"/>
            </a:br>
            <a:r>
              <a:rPr b="0" lang="es-ES" sz="2800" spc="-1" strike="noStrike">
                <a:solidFill>
                  <a:srgbClr val="ffffcc"/>
                </a:solidFill>
                <a:latin typeface="Tahoma"/>
              </a:rPr>
              <a:t>Los indicadores y datos apropiados.</a:t>
            </a:r>
            <a:br>
              <a:rPr sz="2800"/>
            </a:br>
            <a:r>
              <a:rPr b="0" lang="es-ES" sz="2800" spc="-1" strike="noStrike">
                <a:solidFill>
                  <a:srgbClr val="ffffcc"/>
                </a:solidFill>
                <a:latin typeface="Tahoma"/>
              </a:rPr>
              <a:t>La metodología apropiada. </a:t>
            </a:r>
            <a:r>
              <a:rPr b="0" lang="es-ES" sz="37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2:06:50Z</dcterms:created>
  <dc:creator>kmacint</dc:creator>
  <dc:description/>
  <dc:language>en-US</dc:language>
  <cp:lastModifiedBy>Charlotte Colvin</cp:lastModifiedBy>
  <dcterms:modified xsi:type="dcterms:W3CDTF">2005-03-22T20:41:58Z</dcterms:modified>
  <cp:revision>23</cp:revision>
  <dc:subject/>
  <dc:title>Conceptual Framewo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93866883</vt:r8>
  </property>
  <property fmtid="{D5CDD505-2E9C-101B-9397-08002B2CF9AE}" pid="3" name="_AuthorEmail">
    <vt:lpwstr>jposner@tulane.edu</vt:lpwstr>
  </property>
  <property fmtid="{D5CDD505-2E9C-101B-9397-08002B2CF9AE}" pid="4" name="_AuthorEmailDisplayName">
    <vt:lpwstr>Jessica Posner</vt:lpwstr>
  </property>
  <property fmtid="{D5CDD505-2E9C-101B-9397-08002B2CF9AE}" pid="5" name="_EmailSubject">
    <vt:lpwstr>MEASURE TB Workshop</vt:lpwstr>
  </property>
</Properties>
</file>